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7EA-8FA2-4CEC-BDE3-3701B4EF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709-674E-4A6D-848D-05DCA623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EAA-395C-47AB-83AE-38670960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111-07BD-47A5-A134-9EB51C05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878-177A-4AC5-BF28-96DFF91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9F0-820D-46C4-AE82-761BE01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930-FDE3-4DF1-BE61-FA86EAA1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5D8-663D-47AE-BA5B-E7F5B58A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F79-BEA9-4D34-BC18-8EC922A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E38-7389-4103-83F5-EF589F1D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FC4-2FE9-419F-9C88-978B851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C44-F436-46C4-95C6-89A7741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09A3-F4D2-4EFD-957A-05B0FBAF3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ramentas de desenvolvimento rápido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Dark Basic Pr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Vetores (</a:t>
            </a:r>
            <a:r>
              <a:rPr b="0" i="1" lang="pt-BR" sz="44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es precisam de declar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m vetor1(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1(1) = 10 : vetor1(2)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m vetor2#(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2#(1) = 0.5 : vetor2#(2) =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m vetor3$(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3$(1) = “segund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itméticos: + - *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b = a + 10 : c = a *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lacionais: &gt; &lt; &gt;= &lt;= &lt;&gt; = (=&gt;, =&l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a &lt;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ógicos: and or not x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(a &lt; 10) and (a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ndicional (I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único comando (if th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 &gt; 10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print “Maior que 1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bloco de comandos (if / else / end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a &gt;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Maior que 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Menor ou igual a 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ndicional (SELEC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o teste de várias condi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SE 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 print “nível número 1” 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SE 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nível número 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bloco de coman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SE DEFAUL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print “outro número”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mentá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ntar códigos = organização = neces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 de REMARK, anotação, obser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a linha é um coment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a crase também indica coment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o de comandos com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últiplas linhas, pode isolar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W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porizar eventos,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guardar tecla, ação espec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AIT KEY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aguarda tec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AIT MOUS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aguarda botão do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AIT 10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aguarda X mili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utput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= exibe mensagens / variáveis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,” = mensagens / valores na mesma 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” = mantém o cursor na mesma 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me$ = “Meu n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ade =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Mensagem: 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nome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Mensagem “, nome$, “ - “,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input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“mensagem”,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ós ENTER, a variável recebe o valor dig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“Qual o número?”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um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numero digitado: “, num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“Qual o nome?”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me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nome digitado: “, nome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es:  RGB (Red, Green, 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onentes de cor variam de 0..2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ranc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GB(255,255,2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GB(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zul pur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GB(0,0,2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16 milhões de combinações = 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utros coma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L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– limpar a t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L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or – limpa a tela, nova cor de f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S RGB(0,0,255)  = limpa a tela, fundo 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CURSOR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a posição do cursor par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t,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put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andos 2D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s de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,0 = topo da tela, esqu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rodução a Dark Basic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nt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p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put / Output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aços e repeti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utros coma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NK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or escrita, cor f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ermina cor par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andos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r de fundo funcional par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andos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S RGB(0,0,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CURSOR 10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K RGB(250,250,0), RGB(0,0,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"Agora texto em cores, e posicionado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A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 / TO /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úmero de repetições finito, passo definido (step) ou incremento de 1 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x = 1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250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P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S RGB(0,0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WAI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HILE / 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petição enquanto condição verdad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m incremento automátic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sta condição no iní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sx &lt; 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CURSOR posx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NT “Texto movendo em X com WH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WAI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x = posx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D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PEAT / U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petição até que condição seja verdad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m incremento automátic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sta condição no final, roda sempre a primeir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T CURSOR 100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NT "Movendo Texto em Y com REPEA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= y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AIT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&l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 /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aço infinito, sem condição pré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de ser quebrado co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I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= sair la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de ser quebrado co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= fim program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V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er usado como laço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incipal do program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O / LOOP: enquanto programa rod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repetição a cada tela renderizada (F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ntro do laço principal inserimos todas seções do 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ole de movimentos, col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ole de adversários, regras do jog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 /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DA até senha correta para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rings podem ser comparadas com simples sinal de igualdade = (maiúsculas e minúsculas importam neste ca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NT “Descubra a senha ou fique trancado para semp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PUT “Qual a senha para saída? ”, palavra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palavra$  = “socorr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NT “HAHAHA !!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jetivo: testar comandos apr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pequeno jogo texto, de adivinh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strar texto dica a cada pergunta (3 pergun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ar comandos print / input para mostrar / recolher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andos IF / ELSE determinar correto ou er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omar pontuação com uso de vari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o final, usar SELECT / CASE mostrar número de ac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cionar textos na tela, usar cores e movimen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gunta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CA: É um número primo, menor que 100, maior que 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vinhe qual o númer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erramenta de Desenvolvimento Rápido de Jogos 2D e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RAD =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apid Application Developme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nguagem Basic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(Beginner's All-Purpose Symbolic Instruction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ntagem: Linguagem muito simples de 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vantagem: Pouco estruturada, permite códigos pouco claros (cuid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acilidade = Velocidade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ramentas RAD (em g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umas limit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número de elementos (obje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recursos (complex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ações no tamanho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icado p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jetos menores, de escopo bem defi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ogos casuai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tótipos de jogos ma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envolvimento de 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esentação de idé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o de ferramentas (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ngin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 mais robustas para projetos maiores, topo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gramas fonte: &lt;arquivo&gt;.D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 plano, qualquer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erência e Configuração do Projeto: &lt;arquivo&gt;.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ilador (.dbpro, .dba =&gt; .ex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Help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Documentação On-Line (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Sintaxe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de linhas de comando sem “;” ou “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“ : ” para mais comandos na mesma linha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há distinção entre maiúsculas / minús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há necessidade de declaração específica de variá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os nomes são entendidos como novas variáveis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ito cuidado com 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Variá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áveis valor inteiro = nome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= 10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áveis valor real (vírgula) = nome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# = 0.1 +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áveis string = nome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me$ = “tex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nome da variável, com # ou $ indica seu tipo: não é necessário declarar prev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Variá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UIDAD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variáveis inteiro aceitam receber números com vírgula (sem apresentar erro), mas não guardam o valor corretamente. 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= 1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# = 1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b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ai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08-08-07T12:35:18Z</dcterms:modified>
  <cp:revision>51</cp:revision>
  <dc:subject/>
  <dc:title>Projeto de jogos: Ferramentas de desenvolvimento rápido </dc:title>
</cp:coreProperties>
</file>